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327-8064-4C9E-8ADF-CB25CCB1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70F-978E-4172-95DF-DCDE9E5C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9178A-C4EF-448F-8386-B89631AD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39E51-19DD-47C1-B3F8-A974100B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E505D-7AFE-4294-9218-F6CFB2A2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35A7C-9980-445A-A40C-396B13EC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685C6-B706-431E-8699-8477DB57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A6201-51B4-4639-A50B-C08D3684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79F82-A37F-458E-88D2-75E49B7D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AB197-64E4-4A6A-B4B4-42585675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D5B2A-3283-4AFB-A1BC-9EC96DB3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DCBC8-B903-4ADF-9876-EAB1920E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FBD-87FC-4D7D-A56C-9507BD3A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392EF-CD1F-4D42-ADE6-6F502A1B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7E53C-CD36-464D-83AA-4E0DB977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20816-4086-47AF-9790-ADDFED31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E560E-672B-404D-85AC-7F9FB341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2BE2A-C458-4C37-884C-74765C3A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B1116-4876-4EE6-9FD4-C452DAE6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64603-B833-4A37-9A65-A7DF491A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D2087-6C10-4086-96D8-D5CA7AD0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25673-24C2-4308-9281-BF370B5A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90166-4355-4A3C-8D1F-703728D7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099-70DE-4B81-9D9F-47404A87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DB7C2-CCB9-43E3-AB4F-A8ED902C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A6FFC-6F4D-485A-9454-49AD437E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56102-3CD3-422D-A95C-910BCA75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B967A-EC94-4486-AB14-50F3DEED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ECEFB-B9C4-4641-B4BC-783D392A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8A173-C14A-445C-98EC-C03B9660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2904F-6973-4CF1-BA58-6C185A80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E85EC-1BC0-40A1-9B3C-9C9087E7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91AF1-BFA7-4FB0-A01B-10580371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58ECF-2E5A-46D4-9B8F-DE30D39C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FA06-7819-4C39-A8CA-C1DBC77A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6C221-3F9A-4D1A-951F-B9253401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B3328-E02D-42D3-BCC6-924761C6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2EBEF-3040-4155-BB6A-4AADAE4C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C73AD-E045-4DC5-853E-28BD90D5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E148B-DF22-4DD1-9C90-6D5D850F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FD67D-0B52-418C-8388-B150765A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62B7B-D963-4A8E-9F00-7BEB885B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B0360-FB39-4425-B5D0-97C84469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43D8D-7477-47BF-BA1F-6DF78D4D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34C6A-E276-41E6-8689-ADFF1ADD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D3A4-95CE-4B8C-89FA-2EA43F81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E216F-3494-429C-8A4C-D052D667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2105A-5FD7-4A5D-80ED-6753F6CE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55396-A9D0-435D-AFEF-704A2429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C405E-1CEB-4332-91B7-7C2EC886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72521-F5D8-4A36-AEFB-469CBD3D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DA97F-D99A-48CD-B121-5E4E77EE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F34BC-990D-4C2A-B942-40487D5A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50523-3CF9-4570-9807-8603C414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35493-B752-4E1E-B0CC-5CA9A766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4D903-840A-41BA-A9B5-3CBDF94D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76D3-B31F-428C-9293-2FABE48F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D5356-5077-4403-8599-1270DE27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7CEF0-2C20-43DC-8C70-442AE660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52C53-C738-415B-8FBD-1DA37481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FCE34-495E-4711-8C0D-0FD5C0F6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7758C-4D8B-4571-9B28-AB9F8115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D90B0-67B6-4FC6-BDCE-C6C7E5F0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62776-45A6-4995-85F0-DF1C637A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17FA8-63E3-4D14-9449-BAA5191B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A84F0-0DFF-471F-82BF-726EEAE5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31F38-E889-4C5D-A4B7-C803B0BD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DA81-164B-4E77-AEB3-84D89CBF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4F4EA-C100-4F56-A8B9-BFC82A80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1EBA6-1308-4DFB-8C36-4FBB0540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0D26F-0930-4747-8E1A-F52970AE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9851B-C3AD-466B-9DBA-03653A27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F65E6-7F7F-40A5-A067-CF56A00C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25888-53B3-47EC-8E2F-FFC80867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88B9AB-C193-4AD7-83D4-0162F3A5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7CD10-BD40-4995-953B-9624AB6B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DDD906-5F4F-4720-88A3-A4FC7F36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4015C-863A-4EF9-B900-7C3B341A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EFF8-FF87-4814-B2C7-CD543B04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E0743-0EBC-4666-9604-E9774E23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DAD8D0-53C3-45C9-A279-93DC0574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285FD4-FF97-4F86-AF74-DE193BB5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A0584-6A0D-41B5-A6E3-0057D3E2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3D7BD-7AA1-43D7-8410-9FAC779A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90757F-2575-4C5D-84B4-9B386578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D5F2A2-A317-4690-A920-9BA39E9D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FA7884-8A16-4D8B-8F50-5E8837F4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055288-C05B-49ED-B9F4-C586D6CF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8BD392-7D67-4D14-B1DF-CE2F7B04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C8BD-650D-4E0B-A478-13DE47D5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2B151-D47C-4E94-905D-261B8EA3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D64BE0-50AF-485F-96C3-1F75042D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708B55-5933-47E2-A06D-4A42733A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6CFF9-560D-4CDB-9E2B-3D2208B8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B8EC8-5992-4027-8628-1B1EE9A8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6F1532-4391-4DF5-B341-42E769F7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47ABA2-21F3-4B11-A63B-5C129DBE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0E8805-1B9E-4AD6-90BD-51922746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8F7DA7-5FD1-4D41-899E-2BEE3D10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76CAA-5D0E-469E-B92C-40E68969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2235-6504-4EA3-88E8-2A8F758E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82FC9A-1BC3-48E0-9F80-24E72375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64371-8F6E-4038-990C-A973CBD2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94640B-3F9C-4573-B877-DE73E2BD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CD43-A3C0-41AB-BD31-DA93360B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B554-F4AF-41CD-BFB7-3D4A3D6A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34A4-4D7A-4946-A0A6-4344EF69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5059-7F1B-48C2-9349-3C84BE72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75D8-CB17-411B-9245-27487A7B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08FD-AA5E-4E7A-922E-257AE832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5040A-7755-43EF-9416-F5585E62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43A8-08A6-4ABA-B0B2-3B193AF1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34D2-296D-42FC-87F8-B721CE9E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E717-5B69-4FAE-8C34-77751991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B200C-12C6-4E91-A5FE-D1C9A60B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5DA-071B-4C0D-93C4-CEAA39F6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B56F0-3656-4270-BCFD-170025AF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00D3B-5889-4252-ACDF-28524424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CCAA0-C160-4037-A653-64AE6669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7CA7B-8B63-490C-A24E-ACBDD330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E343B-FC58-4E93-8E33-FD9ED849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A01F7-140D-4C31-868A-B7C80FCD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D020D-B95C-4443-93BA-D882510D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E37A0-E110-451B-8FFA-C26B8A8F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DCE10-4A61-4497-BD1A-FDAD897E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F9C99-87B1-4F2C-8667-B88EAD81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EF2-82F4-4A63-974C-140FDFD1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4FA7B-A719-4BB7-B1B7-02EF66D2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7B320-9B80-4CF4-8D40-FA9A476C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9E61E-2008-44AC-8A59-4257705F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65EAD-EFA3-4D5E-9662-5AFFC1D0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C5152-06A5-4917-8140-05E009BF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71551-7977-483C-BF04-454C859A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B1D2B-4EDC-4C26-8586-B6D784CA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71E52-4D17-4361-93D3-D8E1F054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7FC0-EED6-489F-9CC9-89EDA422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CFD84-FD92-4E72-905D-280102E8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E01-F301-4361-9B39-927D2D03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678ED-0DD9-4461-9E1E-D1906911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A9B3-6564-4145-96A2-87BCE6FE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4EA43-F1AD-4F7E-B977-F8F0FC7D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B89E2-2705-4E94-9286-5991A060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4194E-6C15-4A4C-BE80-E702D83E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567E4-7431-4D02-A94A-AC140947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F811D-F9D0-43DE-9B25-235133A0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BD406-6AA8-44CD-9D2D-14B3A074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866E0-7121-4E6B-AE54-25F0656F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1F73A-B0C8-4436-A69D-746F080F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986-7515-4E7B-98C6-DE74146B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3008F-20F5-48BD-9652-4947EF28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B2730-B13B-4805-B8C3-76AA3707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B51B0-EDCB-46DF-A5B1-9AB2F42E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4A3BD-1732-49F6-8AE9-3AA9327E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8578B-E76D-4600-8252-182F6F3E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1C158-0EE2-43C5-A4DA-E666A8EF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6C909-A887-40AB-AB67-8B8C85CA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E2A96-5739-43E3-83C4-14B22FDB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DDA35-8C1A-4E89-B678-5C79300A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3B7C5-A067-4051-AC46-3361B6D9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5A0-9C92-4481-A0D9-5704C3D6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F5A32-34E8-49AF-9A9C-1EE2DD5D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B2374-2868-4187-A90C-9961D5EE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01A26-420D-463A-BEE3-73F4AE00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30D53-356E-4534-B5D5-F8F5CD55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B7729-3958-4981-8B9C-2FF1D6BE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F86EC-D30C-4F4F-9110-2C3F13ED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93BDA-3E6F-4F77-B5AC-A07F4278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B8BCE-790C-4E57-B885-0143BEAD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2DCAC-249D-47B0-A231-45C8BA98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819AF-5C8C-43F9-934B-31F055A1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DEC-FD19-46B5-9422-27165F3E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00636-5AA1-4062-9415-A2582BA3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87CD7-3E34-4BB6-AD05-CEFB8C3E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14D2A-F33C-44C1-B96D-1D707310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25ABD-B7E5-4490-807C-F12097D4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99488-7CE1-403B-8267-3302361F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68B45-0E09-41DE-94EE-80AE18DB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ED458-5D87-44B1-871E-8791F3C5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91604-176B-4981-BE0E-28C18E2B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F6F44-E9E6-4D84-9878-5C003040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F1BD8-3F0F-43CE-BD03-25D8757F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9AF-1004-49C1-9222-25616ACD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75827-4A8F-4046-81FF-495AD8BE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703B6-1AE4-4071-B645-05DD4ACF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F9D69-A0E9-4150-B632-0B3893B3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A4499-EB8F-4AB8-B075-423B5D96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75306-DEDD-46B5-BCF1-1DDDB1BF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0475D-12C9-4FDD-8E27-78C26A1F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E33F5-5FBE-4CDE-8950-F117D3AF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1C382-C765-4E45-8C54-3C079C4F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05702-ABF9-46CB-81DD-2F75B577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BAD48-738F-4A9D-9EBE-F366FF0B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C2B5-E54A-4AF1-9A0B-4AC4F6E90DC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A9DC-00DA-431D-A116-1895167E0D54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DA1E-46CA-4F13-839F-6C5B21137F7E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76FF-CC02-4A55-A5DA-A03DF6373DF0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5F7F-8CC4-40B1-B7F5-F83EE7B18528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43EA-0A17-4B92-8CDE-51EDEBFAECB5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B9D4-77B0-48BD-A5DD-1A5DCF5CEF7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F7F0-F2AB-4039-91EA-C7A656292EF1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0198-8AF8-462A-B434-65C32446675B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2F5B-FC73-43BD-9824-80343096C93C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0BEE-DF92-45AA-94FF-0A399E96DD25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375F-237E-4528-9CFC-BF3DBCFA78D7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2EE5-277B-449A-B0D4-750E4980D4A0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0744-2C36-4DA4-ABF5-1B7291346D8F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4A5F-5AF6-49B7-8A87-35AC96EA18FD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21FC-6F90-47B1-88EF-5CE0C3BE12D9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3"/>
          <a:stretch/>
        </p:blipFill>
        <p:spPr>
          <a:xfrm>
            <a:off x="603360" y="1427040"/>
            <a:ext cx="7937280" cy="654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5B26-213C-460C-A2F3-218B0A305A1A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6CF5-C917-4BCF-951E-A7E22A912732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3DC5-8A44-4AF6-BF57-37E6C9D2DD35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F058-6E5B-42E1-B6FE-3125EC9329D8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1E3E-98CF-4BBB-A670-26EF1F7698C1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37CF-E267-44DB-85EA-528AA4BECC07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B136-C998-424A-A1B2-55F6175FA965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BA62-4085-4916-ADA5-1E7084039E3B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7B8B-145D-4DA5-ADA0-9B5D7A42E6E0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8C2B-159B-4448-9E18-354891EC71D4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CA4E-DB93-4C67-83E1-B12993DBACBD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AA24-907B-4C0A-BE45-1652A3D3B7F5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9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0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1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2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3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81D8-2FDF-4BA2-9481-C3D31585B731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9C7F-4915-4324-8FFC-C82AB40B2EB4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9968-7E2B-4B15-AD83-F38F33400F1D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BC5F-7157-4604-B128-2D1B1727BD9E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Rectangle 1" descr=""/>
          <p:cNvPicPr/>
          <p:nvPr/>
        </p:nvPicPr>
        <p:blipFill>
          <a:blip r:embed="rId2"/>
          <a:stretch/>
        </p:blipFill>
        <p:spPr>
          <a:xfrm>
            <a:off x="652320" y="1530360"/>
            <a:ext cx="7839360" cy="1646280"/>
          </a:xfrm>
          <a:prstGeom prst="rect">
            <a:avLst/>
          </a:prstGeom>
          <a:ln w="0">
            <a:noFill/>
          </a:ln>
        </p:spPr>
      </p:pic>
      <p:pic>
        <p:nvPicPr>
          <p:cNvPr id="683" name="Rectangle 2" descr=""/>
          <p:cNvPicPr/>
          <p:nvPr/>
        </p:nvPicPr>
        <p:blipFill>
          <a:blip r:embed="rId3"/>
          <a:stretch/>
        </p:blipFill>
        <p:spPr>
          <a:xfrm>
            <a:off x="652320" y="3213000"/>
            <a:ext cx="7839360" cy="871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ikiSpac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176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“Join” butt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ick a username that will allow me to assign participation point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llaborative Web Pag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Add material to any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Edit material already posted to a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Delete material posted to a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Create a new page with new materia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teria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ext conten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yperlink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118260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WebPages, Podcasts, Video, Audio, etc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iki Pages to Updat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ccounting Syste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ata Model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BR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w page, create one!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Deliverable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ad SAD Wiki chapter 9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gn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course agre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ue May 19t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rm Grou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oup Assignmen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9200" indent="-349200">
              <a:lnSpc>
                <a:spcPct val="90000"/>
              </a:lnSpc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Teams of 5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roject requirements: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rief Description of a Proces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tailed Narrative of a Proces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 &amp; A Tabl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ata Flow Diagrams (context, level-0, and level-1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low Char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Implemented via Wiki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rocess will come from Process Classification Framework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3231-D777-4B38-B7AC-46FB2AE913DC}" type="slidenum">
              <a:rPr b="0" lang="en-US" sz="11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hat to Expec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 fontScale="99000"/>
          </a:bodyPr>
          <a:p>
            <a:pPr marL="345600" indent="-345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earning the concepts of A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74720" indent="-3330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(old Chinese proverb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45600" indent="-345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pplying the concepts (Group Case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74720" indent="-3330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Aristotle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4648320" y="1981080"/>
            <a:ext cx="3848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ings/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Syllabus Highlight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r. Steven Horni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shornik@bus.ucf.ed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urse Webpag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http://acg6415.wikispaces.com/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ffice Hours: Tuesday &amp; Thursday 4:30 – 5:4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; and by appoint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ffice: BA1 432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Use Meebo Widget in Wikispac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Text Book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3352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Accountants Guide to XBRL 5th  ed., by Clinton E Whit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vailable only at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orbel"/>
              </a:rPr>
              <a:t>http:www.skipwhite.com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0099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Systems Analysis and Design Wiki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apter 2, 9 and 18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Get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Gliffy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Account – Web Based Modeling too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ade Component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0520" y="18284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am 1 (Data Models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am 2 (XBRL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usiness Process Model (Group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5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ML Assignment (6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6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articipation (Wiki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2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tal Points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53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ading Sca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A 4.00 100-9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A- 3.75 92-9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+ 3.25 89-8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 3.00 85-8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- 2.75 82-8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C+ 2.25 79-7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C 2.00 75-7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4648320" y="2743200"/>
            <a:ext cx="38480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+ 1.25 69-6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 1.00 65-6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- 0.75 62-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Participation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ecture’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 In Class, Ask Questions, New Technolog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W / Cas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 In Class, Prepared to discu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ik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Quality of pos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Exam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ultiple choi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atch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hort-answe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blem solving / model build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eneral Course Objective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You will be expected to prepare models of business processes, specifically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ata Flow Diagrams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low Charts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ain Understanding of XBR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BR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BL and XBRL-G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arily, to become consumers of information related to new technology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0:15:00Z</dcterms:created>
  <dc:creator>shornik</dc:creator>
  <dc:description/>
  <cp:keywords/>
  <dc:language>en-US</dc:language>
  <cp:lastModifiedBy>Steven Hornik</cp:lastModifiedBy>
  <dcterms:modified xsi:type="dcterms:W3CDTF">2011-05-13T13:34:06Z</dcterms:modified>
  <cp:revision>7</cp:revision>
  <dc:subject/>
  <dc:title>ACG 5405 Intro</dc:title>
</cp:coreProperties>
</file>